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D82-34BA-41CF-A6CA-2C7F28F4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0C7-DAFC-475B-B2B5-C47FA700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D6B-D4B3-4900-9E24-7164EE1B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004-10FD-45D1-8DBA-775A203A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47F-6F1D-46AB-839A-E0EC9CD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FB5-90E2-4315-9F26-2F124ED1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8BC-FAD8-45BE-8F56-27B6F2C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3E7-D619-42D3-8955-3AC0EC86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4BD-56DD-41B0-AA63-5DD8A50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414-A7CC-4C38-ACA7-4289389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76F-5F5E-4A54-A844-40DA39C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458-E6A3-4933-89F5-9441D4F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7A25-4BC0-4B7F-AC09-8FD90C27E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5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29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hyperlink" Target="file:///&#30446;&#24405;.ppt" TargetMode="External"/><Relationship Id="rId16" Type="http://schemas.openxmlformats.org/officeDocument/2006/relationships/audio" Target="../media/projctor.wav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文件操作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00100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1" action="ppaction://hlinksldjump"/>
              </a:rPr>
              <a:t>1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使用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CFile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类进行文件读写、删除、改名及访问文件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2. 使用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CStdioFile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类操作文本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3. 使用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CFileFind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类查找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.了解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windows API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的文件操作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6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040" y="858960"/>
            <a:ext cx="83217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LONG Seek(LONG lOff, UINT nFrom);     throw(CFileExce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值：如果要求的位置合法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从文件开始的字节偏移量。否则值未定义，并产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Excep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针移动的字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F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针移动的参照点，有三种取值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File::beg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文件开始，把指针向后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f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File::current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当前位置开始，把指针向后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f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File::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从文件尾开始，把指针向后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f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File 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ONG lOffset = 1000, lActu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Actual = cfile.Seek(lOffset,CFile::beg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040" y="85896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oid SeekToBegin( ); throw(CFileExcep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ToBeg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文件指针指向文件开始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DWORD SeekToEnd( ); throw( CFileExcepti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ToE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文件指针指向文件逻辑尾部，返回值为文件长度（字节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已打开文件，且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（定义见上例）为记录，下面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读取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Rec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914400"/>
            <a:ext cx="8321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GetData(CFile  f,  int nRec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Rec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在文件中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 = (nRecord – 1) * sizeof(STUD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指针移到文件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.SeekToBegi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当前位置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.Seek(offset, CFile::curr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取记录信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.Read(s, sizeof(STUDE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040" y="858960"/>
            <a:ext cx="832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irual DWORD GetPosition()const ;throw(CFileExcep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函数返回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无符号整型数，用于标识当前文件指针相对于文件头的偏移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使用该函数求文件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WORD GetFileLength(CFile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f.SeekTo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eturn f.GetPosi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858960"/>
            <a:ext cx="8839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DWORD GetLength() const; throws (CFileExceptio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函数没有参数，直接返回文件以字节计的长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etFileNam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得文件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etFileTitl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得文件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etFilePat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得文件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OOL GetStatus(CFileStatus  &amp; rStatus) cons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指定文件的状态信息成功获取，该函数的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r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于返回文件的信息。这里使用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来接收状态信息。以下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858960"/>
            <a:ext cx="929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uct CFile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  m_ctime;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创建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  m_mtime;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最后一次修改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 m_atime;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后一次访问文件并读取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ONG m_size;   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逻辑长度，以字节数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YTE m_attribute;      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属性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/ 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字符集表示的全文件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CHAR m_szFullName[MAX_PATH]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3640" y="55069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attribu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表述文件属性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的属性 ，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85896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um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mal=0x00,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dOnly=0x01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idden=0x0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ystem=0x04,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olume=0x08,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//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卷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rectory=0x10,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rchive=0x20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归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例题（判断文件是否只读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792468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IsReadOnly(CFile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Statu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注意：函数的参数为引用不是指针，所以不需要用取地址符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.GetStatus(f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s. m_attribute &amp; CFile:: readOnly ==  fs. m_attribu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C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静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038480"/>
            <a:ext cx="6705720" cy="3020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oid SetReadOnly(CString strFile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ile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ile::GetStatus(strFilename, f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s. m_attribute  |=  CFile:: readOn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ile::SetStatus(strFilename, f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760" y="762120"/>
            <a:ext cx="8886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GetStat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etStat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，用于取得指定文件的状态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tatic BOOL PASCAL GetStatus(LPCSTR lpszFileName, CFileStatus &amp; r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Fil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文件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为绝对路径或为相对路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r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于返回文件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，用于设置指定文件的状态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tatic BOOL PASCAL SetStatus(LPCSTR lpszFileName, const CFileStatus &amp; r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设置文件为只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C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静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760" y="762120"/>
            <a:ext cx="88869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用于删除指定的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static void PASCAL Remov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PCTSTR lpszFileNam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; throw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Exception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Fil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所要删除文件的路径字符串。路径可为相对或绝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此静态函数删除由路径指定的文件，但不可移去一个目录。如果相关联的文件打开或文件不可移去，则函数产生一个异常。这个函数等价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删除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 strFileName =″d:\\bak\\test.dat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File::Remove(str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件操作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F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F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进行文件读写、删除、改名及访问文件属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C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静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760" y="762120"/>
            <a:ext cx="88869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用于更改指定文件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static void PASCAL Rename(LPCTSTR lpszOldName, LPCTSTR lpszNewNam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hrow (CFleExcep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Old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路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New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路径。此函数用于改名一个指定文件。注意目录不可改变，这个函数等价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更改文件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strSource = “d:\\bak\\test.txt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strTarget = “d:\\bak\\test1.txt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File::Rename(strSource, strTarg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2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本文件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StdioF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StdioF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进行文件读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ad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的定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OOL ReadStr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String&amp; rStr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   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FileExceptio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返回一个布尔型值，当无数据可读时，返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否则返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r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是一个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的引用，当函数返回时，该对象包含了所读取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成员函数用换行符将文本文件分为若干行，然后将文本以行为单位读出到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读出的数据将忽略回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行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dioFile::ReadSt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rite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的定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virtual void WriteStr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PCTSTR lpsz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row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FileExceptio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lps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指定一个指向存放了以空字符结尾的文本字符串的缓冲区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此成员函数将一个缓冲区中的数据写入文件，并且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ps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换行符都被转换成一个硬回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行符对写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dioFile::WriteSt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拷贝文本文件的专用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85800"/>
            <a:ext cx="8991720" cy="8487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dioFile fSource, f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Source.Open(strSource, CFile::mode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Open Source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Target.Open(strTarget, CFile::modeCreate | CFile::modeWrit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Create Target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 (fSource.ReadString(strTem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注意：加入回车符使生成的文件与原文件一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WriteString(strTemp + ‘\n’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件查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FileFi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进行文件查找文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OOL FindFile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PCTSTR pstrName = NUL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WORD dwUnused = 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如果成功，则返回真值，否则为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str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指向待找文件名字符串，可包含星号，如果不填，则查找当前目录下的所有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wUnus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为保留参数，必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不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调用此函数只是打开一个文件查找，并未开始文件查找，所以必须在调用至少一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ndNextF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后，方可调用取得文件属性的函数，例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etLeng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。但如果打开失败，再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ndNextF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则会出错。所以应检查本函数的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nd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OOL FindNextFil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如果还有文件，则返回真值；如果为最后一个文件，则为假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调用此函数是检查是否还有文件，所以可以作为循环标志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ndNext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取得某目录下所有文件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85800"/>
            <a:ext cx="8991720" cy="15027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FilePath(CString strPath, CStringList * pstrName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f;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la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f.FindFile(strPath)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打开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at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目标的文件查询，并检查调用是否成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 (ff.FindNextFile())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下个文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f.IsDots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f.IsDirector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 l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= ff.GetFilePath(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取道目录的全路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strTemp.Right(1) != "\\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"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ie = strPath.ReverseFind('\\'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strPath.Right(strPathName.GetLength() - lie - 1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生成路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FilePath(strTemp, pstrNameList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递归调用函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trNameList-&gt;AddTail(ff.GetFilePath()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加入文件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f.IsDots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f.IsDirector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= ff.GetFilePat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strTemp.Right(1) != "\\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"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GetFileName(strPat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FilePath(strTemp, pstrName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trNameList-&gt;AddTail(ff.GetFilePath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f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4   WINDOW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文件操作简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文件操作函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文件打开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BOOL Open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LPCTSTR lpszFileName,  UINT nOpenFlags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FileException* pError = NULL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lpszFileName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欲打开的文件名，文件名可以包含路径和文件名两部分。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:\\bak\\test.txt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如果此字符串不包含文件路径，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st.bak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系统默认为当前路径，即生成的可执行文件所在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nOpenFlag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用于设置访问模式，指定当打开文件时进行的动作，可以将以下所列模式用按位或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符连接起来。至少应有一个访问模式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可选的。以下是常用参数列表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Cre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调用构造函数构造一个新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Read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仅供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ReadWri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供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Wri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 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仅供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typeT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文本文件模式（只能用在子类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typeBin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设置二进制文件模式（只能用在子类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pError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异常类的指针，可通过该类和函数的返回值来确定函数是否调用成功，如下表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INSHELLAPI int WINAP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FileOperatio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PSHFILEOPSTRUCT lpFileOp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用于添加，删除，改名，移动等文件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调用成功则返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lpFile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的指针，本结构存储文件操作的信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很多系统结构都在定义时同时定义了指针类型，指针结构名以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P”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名构成，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P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请注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的定义方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File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的定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typedef struct _SHFILEOPSTRUCT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WND         hw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UINT         wFun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STR       pFrom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STR       p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FILEOP_FLAGS fFlag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OOL         fAnyOperationsAbort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VOID       hNameMapping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STR       lpszProgressTit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} SHFILEOPSTRUCT, FAR *LPSHFILEOPSTRUC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hw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用于显示文件操作信息窗体的句柄，一般填写显示信息窗体的成员变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hW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若不需要显示信息，也可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wFun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标识操作类型。使用以下四个宏定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COPY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拷贝，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拷贝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DELET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删除，删除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（参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忽略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MOV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移动，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移动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RENAM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改名，把文件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改名为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Fr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为原文件的文件及路径名。这个字符串必须以双空字符结尾， 例如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盘根目录下的文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.tx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在此应表示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:\\a.txt\0\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对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类型的变量加一个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\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T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为目标文件的文件名，在参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wFun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_DELET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可忽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fFlag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为控制文件操作的标志，一共有十几个，他们之间可通过来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接，在这里只介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常用的值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NOCONFIRMATI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于一切信息提示框都按确定处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L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显示进度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显示一个不显示文件名的简单的进度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NOCONFIRMATIO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LE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设定，我们就可以在后台默默地处理拷贝删除操作。而设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将显示进度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fAnyOperationsAbort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hNameMapping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主要用于处理多文件的情况。此处不再详细介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lpszProgressTitl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当设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该参数为进度对话框的标题，若没有设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则忽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参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Fr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T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包括路径时，函数默认当前系统路径，即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CurrentDirector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函数取得的路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拷贝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85800"/>
            <a:ext cx="899172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   f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OPSTRUC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声明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OPSTRU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mset(&amp;fop, 0x00, sizeof(SHFILEOPSTRUCT)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置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OPSTRU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f.FindFile(strSource)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文件是否存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f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Source += '\0'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为双空字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hwnd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pFrom = strSourc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pTo = str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wFunc = FO_COP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fFlags = FOF_SILENT | FOF_NOCONFIRMA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!::SHFileOperation(&amp;fop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调用函数并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WINSHELLAPI DWORD WINAPI SHGetFileInfo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TSTR pszPath,  DWORD dwFileAttributes,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HFILEINFO FAR *psf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UINT cbFileInfo,    UINT u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说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szPa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文件路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dwFileAttribut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文件属性标志，一般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sf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文件信息结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指针，用于存储该函数返回的文件信息。定义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ypedef struct _SHFILE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ICON hIcon;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图标的句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int   iIcon;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图标在系统图标列表中的下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DWORD dwAttributes;         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属性数组，一般忽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har  szDisplayName[MAX_PATH];  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har  szTypeName[80];        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类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} SHFILEINF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GetFileInf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b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度，可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取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Flag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参数标志。该函数提供了很多文件参数，在这里只介绍几个常用的。注意这里的参数可以联合使用，之间用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符号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DISPLAY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返回文件名信息，该信息将被拷贝到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zDisplayNa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LARGEI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文件的大图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SMALLI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文件的小图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SYSICONINDE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返回文件的图标在系统图标列表中的下标，该信息将被设置到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I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TYPE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返回文件类型信息，该信息将被拷贝到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zType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GetFileInf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在某位置绘制某文件的图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85800"/>
            <a:ext cx="899172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DrawFileIcon(CDC *pDC,  CPoint pt, CString strFile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INFO    sfi;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件信息结构变量用于存放函数调用的结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mageList        imageList;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用于取得系统的图标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IAMGELIST    hSysImagList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用于存放系统图标列表句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SysImagList=(HIAMGELIST)::SHGetFileInfo(strFilename, 0, &amp;sfi, sizeof(SHFILEINFO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GFI_SYSICONINDEX | SHGFI_SMALLICON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mageList.Attach(hSysImageList)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系统图标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mageList.Draw(pDC, sfi.iIcon, pt, ILD_TRANSPARENT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绘制图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mageList.Detach();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释放系统图标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761364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29714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Err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Excep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。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Excep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异常类的一种，用于检测文件操作中可能出现的错误。关于异常类，将在第八章进行详细的介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if (!f.Open(“D:\\bak\\test.txt”, CFile::modeCreate | CFile::modeWrit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990720"/>
            <a:ext cx="8153280" cy="1828800"/>
            <a:chOff x="380880" y="990720"/>
            <a:chExt cx="8153280" cy="1828800"/>
          </a:xfrm>
        </p:grpSpPr>
        <p:grpSp>
          <p:nvGrpSpPr>
            <p:cNvPr id="55" name=""/>
            <p:cNvGrpSpPr/>
            <p:nvPr/>
          </p:nvGrpSpPr>
          <p:grpSpPr>
            <a:xfrm>
              <a:off x="387720" y="993600"/>
              <a:ext cx="8138160" cy="1822680"/>
              <a:chOff x="387720" y="993600"/>
              <a:chExt cx="8138160" cy="18226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387720" y="993600"/>
                <a:ext cx="2109240" cy="432360"/>
                <a:chOff x="387720" y="993600"/>
                <a:chExt cx="2109240" cy="4323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490320" y="993600"/>
                  <a:ext cx="190404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Perr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87720" y="993600"/>
                  <a:ext cx="210924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2497320" y="993600"/>
                <a:ext cx="2109240" cy="432360"/>
                <a:chOff x="2497320" y="993600"/>
                <a:chExt cx="2109240" cy="4323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599920" y="993600"/>
                  <a:ext cx="190404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返回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497320" y="993600"/>
                  <a:ext cx="210924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607280" y="993600"/>
                <a:ext cx="2073600" cy="432360"/>
                <a:chOff x="4607280" y="993600"/>
                <a:chExt cx="2073600" cy="4323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709880" y="993600"/>
                  <a:ext cx="186840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调用是否成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07280" y="993600"/>
                  <a:ext cx="207360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6681240" y="993600"/>
                <a:ext cx="1844640" cy="432360"/>
                <a:chOff x="6681240" y="993600"/>
                <a:chExt cx="1844640" cy="432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783840" y="993600"/>
                  <a:ext cx="163944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异常类的设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681240" y="993600"/>
                  <a:ext cx="184464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87720" y="1425960"/>
                <a:ext cx="2109240" cy="319320"/>
                <a:chOff x="387720" y="1425960"/>
                <a:chExt cx="2109240" cy="319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90320" y="1425960"/>
                  <a:ext cx="19040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87720" y="1425960"/>
                  <a:ext cx="210924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497320" y="1425960"/>
                <a:ext cx="2109240" cy="319320"/>
                <a:chOff x="2497320" y="1425960"/>
                <a:chExt cx="2109240" cy="3193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99920" y="1425960"/>
                  <a:ext cx="19040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97320" y="1425960"/>
                  <a:ext cx="210924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607280" y="1425960"/>
                <a:ext cx="2073600" cy="319320"/>
                <a:chOff x="4607280" y="1425960"/>
                <a:chExt cx="2073600" cy="3193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709880" y="1425960"/>
                  <a:ext cx="18684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607280" y="1425960"/>
                  <a:ext cx="20736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681240" y="1425960"/>
                <a:ext cx="1844640" cy="319320"/>
                <a:chOff x="6681240" y="1425960"/>
                <a:chExt cx="1844640" cy="3193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783840" y="1425960"/>
                  <a:ext cx="1639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81240" y="1425960"/>
                  <a:ext cx="184464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87720" y="1745280"/>
                <a:ext cx="2109240" cy="318960"/>
                <a:chOff x="387720" y="1745280"/>
                <a:chExt cx="2109240" cy="3189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90320" y="174528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87720" y="174528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497320" y="1745280"/>
                <a:ext cx="2109240" cy="318960"/>
                <a:chOff x="2497320" y="1745280"/>
                <a:chExt cx="2109240" cy="318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599920" y="174528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97320" y="174528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07280" y="1745280"/>
                <a:ext cx="2073600" cy="318960"/>
                <a:chOff x="4607280" y="1745280"/>
                <a:chExt cx="2073600" cy="318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709880" y="1745280"/>
                  <a:ext cx="18684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07280" y="1745280"/>
                  <a:ext cx="20736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681240" y="1745280"/>
                <a:ext cx="1844640" cy="318960"/>
                <a:chOff x="6681240" y="1745280"/>
                <a:chExt cx="1844640" cy="318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783840" y="1745280"/>
                  <a:ext cx="1639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681240" y="1745280"/>
                  <a:ext cx="18446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87720" y="2064600"/>
                <a:ext cx="2109240" cy="318960"/>
                <a:chOff x="387720" y="2064600"/>
                <a:chExt cx="2109240" cy="318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90320" y="206460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FileExce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7720" y="206460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497320" y="2064600"/>
                <a:ext cx="2109240" cy="318960"/>
                <a:chOff x="2497320" y="2064600"/>
                <a:chExt cx="2109240" cy="318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9920" y="206460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97320" y="206460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607280" y="2064600"/>
                <a:ext cx="2073600" cy="318960"/>
                <a:chOff x="4607280" y="2064600"/>
                <a:chExt cx="2073600" cy="318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709880" y="2064600"/>
                  <a:ext cx="18684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607280" y="2064600"/>
                  <a:ext cx="20736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681240" y="2064600"/>
                <a:ext cx="1844640" cy="318960"/>
                <a:chOff x="6681240" y="2064600"/>
                <a:chExt cx="1844640" cy="318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83840" y="2064600"/>
                  <a:ext cx="1639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没有变化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681240" y="2064600"/>
                  <a:ext cx="18446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87720" y="2383560"/>
                <a:ext cx="2109240" cy="432720"/>
                <a:chOff x="387720" y="2383560"/>
                <a:chExt cx="2109240" cy="432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90320" y="2383560"/>
                  <a:ext cx="190404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FileExce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7720" y="2383560"/>
                  <a:ext cx="210924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497320" y="2383560"/>
                <a:ext cx="2109240" cy="432720"/>
                <a:chOff x="2497320" y="2383560"/>
                <a:chExt cx="2109240" cy="432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99920" y="2383560"/>
                  <a:ext cx="190404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497320" y="2383560"/>
                  <a:ext cx="210924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607280" y="2383560"/>
                <a:ext cx="2073600" cy="432720"/>
                <a:chOff x="4607280" y="2383560"/>
                <a:chExt cx="2073600" cy="432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709880" y="2383560"/>
                  <a:ext cx="186840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07280" y="2383560"/>
                  <a:ext cx="207360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681240" y="2383560"/>
                <a:ext cx="1844640" cy="432720"/>
                <a:chOff x="6681240" y="2383560"/>
                <a:chExt cx="1844640" cy="432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783840" y="2383560"/>
                  <a:ext cx="163944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置入错误信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81240" y="2383560"/>
                  <a:ext cx="184464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380880" y="990720"/>
              <a:ext cx="8153280" cy="1828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用于打开文件的构造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PCTSTR lpszFileName, UINT nOpenFlag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hrow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Exception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File 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:\\bak\\test.txt”, Cfile::mode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构造函数没有返回值，当打开文件出错时只是产生一个异常。所以不能象函数那样通过分支语句来保证文件已打开，而应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/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宏来判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String   strFileName = “D:\\bak\\test.txt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File f(strFileName,CFile::modeCreate | CFile::modeWri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ATCH(CfileException 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#ifdef_DEBUG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afxDump&lt;&lt;″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文件不能打开！″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&lt;&lt;e-&gt;m_cause&lt;&lt;″\n″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}END_C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成员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oid Clos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用于关闭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打开的文件。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打开文件后，应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释放文件句柄及缓冲区的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和关闭文件的例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if  (!f.Open(“D:\\bak\test.txt”, CFile::modeRea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MessageBox(“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打开文件失败！”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return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f.Clo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读写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UINT Read (void* lpBuf,  UINT nCount) ;  throw(CFileExce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返回值是传输到缓冲区的字节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lpBuf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用户提供的缓冲区以接收从文件中读取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可以从文件中读出字节数的最大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对所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，如果到达文件尾，则返回值可能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void Write(const void* lpBuf, UINT nCount);    throw (CFileExce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参数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参数类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lpBuf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用户提供的缓冲区，包含将写入文件中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缓冲区内传输的字节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几种情况下均产生异常，包括磁盘满的情况、磁盘为写保护状态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并没有提供类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类的文件结束标志，所以文件的结束是根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返回值来判断的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返回的是实际读出的字符数，当返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则表示文件已读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读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读写例题（文件复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09480"/>
            <a:ext cx="8686800" cy="103392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 fSource, f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[4096];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字节的缓冲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打开文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Source.Open(strSource, CFile::mode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Open Source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Target.Open(strTarget, CFile::modeCreate | CFile::modeWrit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Create Target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文件到缓冲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 = fSource.Read(c, 409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 (n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Write(c, n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 = fSource.Read(c, 409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读写例题（文件复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09480"/>
            <a:ext cx="8686800" cy="12561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truct teg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n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har sName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n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 STUDENT, * LPSTUD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 fSource, f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TUDENT  s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打开文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Source.Open(strSource, CFile::mode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Open Source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Target.Open(strTarget, CFile::modeCreate | CFile::modeWrit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Create Target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文件到缓冲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Count = fSource.Read(s, sizeof(STUD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while (n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Target.Write(s, sizeof(STUD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Count = fSource.Read(s, sizeof(STUD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2:44Z</dcterms:modified>
  <cp:revision>257</cp:revision>
  <dc:subject/>
  <dc:title>第四章   菜单、快捷键和控制条 </dc:title>
</cp:coreProperties>
</file>